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9F7-795B-47DC-A22A-12C3AC4E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9AA-B9B7-45D3-A53C-C0DCEBA5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AB4A-56D5-4D6A-B7DE-5F79EB19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815-169C-4227-816F-885C9317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A415-3962-458B-B111-A8310974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A55-15D1-474B-B809-0D33B4E8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AEC-AECB-40AD-83D3-AF3555FE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4CB-53BA-4AC7-9A0A-CE5B3C07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84D2-B10A-4602-8FFE-F322A556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433-F0CB-4E30-BC39-71302BD3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AA3-70BE-40B5-9D7E-880035DC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4859-6F6C-4E88-A1B7-F7FBE42F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E32D-4D49-42F6-B2DD-EBF3B5B3E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Castellar"/>
              </a:rPr>
              <a:t>Mis Vacaciones en Buenos Aires, Argent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leah Wi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091000">
            <a:off x="456840" y="3886200"/>
            <a:ext cx="3200400" cy="2246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561800">
            <a:off x="5839920" y="4457880"/>
            <a:ext cx="3124440" cy="17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Balneari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606680"/>
            <a:ext cx="82296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ida Da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¡Hola! Hoy hace buen tiempo. Lo es soleado. Hoy lluege a la Plaza Hotel en Buenos Aires,Argentina.  La Plaza Hotel es my bonita ,muy grande, y muy populare. Yo fui con tus pardres y mi hermano. Yo trajo ropas muchas, uno traje de b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crema protectora, y una raqueta. Yo trajo una camera tambien. La Plaza Hotel no se tener una playa, sino hay es una playa cerca p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todo mi afec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e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467480" y="5181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228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304920" y="228600"/>
            <a:ext cx="2514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RGENTI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La Pl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4765680"/>
            <a:ext cx="2819520" cy="2092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15238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70866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Querida Mikhal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¡Hola! Hace calor. Yo fui a la playa. Yo fui tabla hawiiana. No nado. Yo llueva crema protectora ,una traje de baño, una toalla, y gafas de sol. Yo era diversión. La playa ers muy bon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Bes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Ale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781680" y="3276720"/>
            <a:ext cx="2362320" cy="1582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22500" t="3331" r="20002" b="10004"/>
          <a:stretch/>
        </p:blipFill>
        <p:spPr>
          <a:xfrm>
            <a:off x="7391520" y="4876920"/>
            <a:ext cx="175248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LA 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STU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143000"/>
            <a:ext cx="58676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rida Ikeya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ce tiempo.Yo fui a la Pizza Plaza. La pizza era muy delicioso. Yo mucha pizza. Yo fui con mi famila. La musica era muy fantastico. La resturante es muy bonita tambi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os y abraz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e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SC02078" descr=""/>
          <p:cNvPicPr/>
          <p:nvPr/>
        </p:nvPicPr>
        <p:blipFill>
          <a:blip r:embed="rId1"/>
          <a:stretch/>
        </p:blipFill>
        <p:spPr>
          <a:xfrm>
            <a:off x="6095880" y="4572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use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447920"/>
            <a:ext cx="723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0773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ida Oliv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a! Hace sol. Yo fui a la Museum of Decorative Arts. La museum es muy bonita y muy grande. Yo fui era la famila. La Museum of Decorative Arts es fantastic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e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5:46:22Z</dcterms:created>
  <dc:creator>wilsonaleah</dc:creator>
  <dc:description/>
  <dc:language>en-US</dc:language>
  <cp:lastModifiedBy>Valued Customer</cp:lastModifiedBy>
  <dcterms:modified xsi:type="dcterms:W3CDTF">2012-12-01T02:09:52Z</dcterms:modified>
  <cp:revision>8</cp:revision>
  <dc:subject/>
  <dc:title>Mis Vacaciones en Buenos Aires, Argentina</dc:title>
</cp:coreProperties>
</file>